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7EC-50A0-498F-9EC6-E08644D4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3DD-D2DB-4D5C-B4DC-6461DC75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DF5-FE36-43B8-AB3D-4BDBD6EE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37A-66CB-4CDD-AB97-28F51B9C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E0F3-FCC4-4B12-9299-E018CCAB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1BD9-A559-4E6F-AFD8-F8B32A52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8B0E-A2EA-4D00-B160-CFDE8365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678D-9DCA-4FA1-A288-B5088BE3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16E0-09B4-4E40-BB04-A67879A9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16B8-779F-42C0-8C58-B82BCBAB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954D-E5B3-450C-9765-1AF12104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179-5063-47B8-9B3B-73AE808B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6F88-8AF5-41BD-9734-097221E1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2871-83CD-4436-9321-AE561320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41CA-9901-453C-9510-51381DAF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434A-41D8-4390-BE44-4F1B4AF6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39CD-39C7-4E6D-AB21-EB6C90C9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672-4A54-4F4C-9E5F-F29A8FF9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E58-8EED-4283-A45C-4EDE9CF5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501-0B93-4E12-8BA6-3A898E2A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A26-2B15-40E8-A69B-EF67EC0B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7F8A-7A7B-40A8-A496-229A8718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37D-E1B6-4141-99A8-3F738025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4E3-D707-47AA-94C8-34D7D535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57E4-973A-4FE7-89C6-FE6435FD1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A27B-1CC4-45BC-B22D-A1D676BF5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1430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481"/>
                </a:solidFill>
                <a:latin typeface="Verdana"/>
              </a:rPr>
              <a:t>Question 3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5481"/>
                </a:solidFill>
                <a:latin typeface="Tahoma"/>
              </a:rPr>
              <a:t>Ryan, Alecia, and Taihlo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ife as we know it could not exist without water. Water has the following properties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it is cohesive, they form hydrogen bonds with it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it is adhesive, they form hydrogen bonds with other polar surf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it is a liquid at room body tempera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 it has high specific h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) it has high heat of vaporiz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) it’s greatest density occurs at 4 degrees Celsi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Question 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Question 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400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3341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715000" cy="4467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16909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0200" y="1433520"/>
            <a:ext cx="60199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52480" y="1752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 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1631880"/>
            <a:ext cx="67053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22Z</dcterms:created>
  <dc:creator>xpstudent</dc:creator>
  <dc:description/>
  <dc:language>en-US</dc:language>
  <cp:lastModifiedBy>xpstudent</cp:lastModifiedBy>
  <dcterms:modified xsi:type="dcterms:W3CDTF">2010-09-22T14:38:08Z</dcterms:modified>
  <cp:revision>4</cp:revision>
  <dc:subject/>
  <dc:title>Question 3 </dc:title>
</cp:coreProperties>
</file>